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24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30.png" ContentType="image/png"/>
  <Override PartName="/ppt/media/image5.png" ContentType="image/png"/>
  <Override PartName="/ppt/media/image6.png" ContentType="image/png"/>
  <Override PartName="/ppt/media/image34.wmf" ContentType="image/x-wmf"/>
  <Override PartName="/ppt/media/image13.png" ContentType="image/png"/>
  <Override PartName="/ppt/media/image36.wmf" ContentType="image/x-wmf"/>
  <Override PartName="/ppt/media/image37.wmf" ContentType="image/x-wmf"/>
  <Override PartName="/ppt/media/image38.jpeg" ContentType="image/jpeg"/>
  <Override PartName="/ppt/media/image40.jpeg" ContentType="image/jpeg"/>
  <Override PartName="/ppt/media/image10.png" ContentType="image/png"/>
  <Override PartName="/ppt/media/image8.jpeg" ContentType="image/jpeg"/>
  <Override PartName="/ppt/media/image39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23"/>
          </p:nvPr>
        </p:nvSpPr>
        <p:spPr>
          <a:xfrm>
            <a:off x="39038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95F7-6342-4C2E-AAB4-7BFAE953C3EC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ftr" idx="24"/>
          </p:nvPr>
        </p:nvSpPr>
        <p:spPr>
          <a:xfrm>
            <a:off x="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 type="sldNum" idx="25"/>
          </p:nvPr>
        </p:nvSpPr>
        <p:spPr>
          <a:xfrm>
            <a:off x="390384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F7BE-C1B5-41BD-8F76-113A88562B8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9773-2E0F-464B-B2AC-1B52AF2F8B15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9ACB-43DB-450D-8F7C-82F4235FCDF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456-966A-4E02-98FC-AB894AAB5485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4519-1083-4BEE-BCC6-15899AAEB39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AF1C-6903-4774-A4C6-702B33615241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25C6-2FB6-439C-ACFA-863AD08AF6C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5026-8FDA-44F5-ACE3-1627948859AC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4755-369A-4ABE-B1A8-50DD5A04CAA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E59C-FBDA-4963-BDD8-6B71A04FF369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8479-BA22-4742-A699-A3C4A80FBDB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3F4E-DEAB-4D62-B0E3-95A0004C7BA3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A0DE-7475-4DFE-A654-67F96E153F4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4253-A253-4BBF-8C10-892EA3E0D09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E233-45C3-4ED3-AE5C-0989AEC8CF38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A9C3-F54B-4EF4-A369-64985CC60FA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3D09-7E6C-4B38-8B4B-7D5EA1A1D1B7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0905-684F-4E45-8988-B5991105F56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B97B-2BBC-48E3-983C-D0D41A554844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3249-F53B-45E2-9B64-EBBBE071B04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06C4-330C-4A72-A86D-C0C5B37087A0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6BF6-1CD9-4CA4-B253-F7F1A67E674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F52E-84C2-406E-A89F-748F2D171A1D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58C4-8973-451A-847C-4857BBE18F5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07BB-77EA-4BAB-B6B7-EFB5004F839A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972-22EB-4B58-9A7B-3F4C3098F11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C004-6322-4A4F-BD6F-61C344AEB0E2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44EE-E0B0-46A4-86FC-8F87D1E6B53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3C9B-B1F7-4FB8-92C5-F09407F51C90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EF76-2012-4AC6-9B89-EAE98DEC2AB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0593-234C-49F4-B619-F3DEDF3F7BD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1DC9-9476-4FB3-8E98-ADC97281226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7BB0-019A-44F2-95DE-DB6A4D6435A9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1155-8B67-45C6-BFAA-670E8B4FEC2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8863-6504-46E1-8008-861BBD4D80DA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D02A-0646-4B71-8761-2DDD0AB18F0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DD20-8520-4793-98F2-BD85F49A8249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B0BB-670C-4530-9509-17EB968BF53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4AC-E734-4C86-A18B-D68EFD688ECD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F082-81BF-4FE6-99D9-31AAAE54F76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7DAB-EEB0-416B-8B5C-4BD248CAC8BF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BC01-1759-453D-BDED-63B20EDDC2C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A391-5367-41AB-B861-2B8648E152A8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3019-2D55-4E92-83B7-31D51CC045E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C82A-4692-40AB-B0C6-32A6480AF28E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BEFA-6FA3-4390-871F-CE71B74DF52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693A-A03A-4B0D-B7C3-3752FCBDAD2D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0145-F13D-461B-99DD-9AA2DF357A4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268C8-E699-456C-80BC-56120AFD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C5C51-CF05-40D0-A8E3-618A7D80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FACE-8DB6-4331-B468-C4846409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0BE13-4909-46C1-924E-86FACA31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60B5-D209-4993-854F-ECB9C025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642B3-8677-48C6-ABDA-5F8AC738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E9EB-AC18-4F66-87D9-0B57BC9B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4FF14-D1C0-45F7-A318-C1CD111A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DC04C-0695-492C-AA6D-D5D37F52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879F-BD42-42D7-B186-52CD8BA9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7D64A-30D6-4A34-A2F9-2CE72612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CD20A-859A-42F3-8235-3005AF65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EE188-75ED-43EC-8068-243B522C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71E01-AB46-4A87-9B11-09012108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1A109-5F18-41BA-B964-45196A46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FD36A-65B2-4E61-BE57-44C0A733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239F2-0731-4964-A81D-0054C832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F3274-2E95-458E-B7FE-6D768912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69244-0689-442C-AC03-63B73437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0D9D1-0AD5-42BE-9F81-38D3FF3C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B4D0B-1A41-48EB-BC61-40D0A6B1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374A1-AFD1-4482-87B1-6E076924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359D3-0EFE-47CB-8865-F32EB687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52363-3E2A-4B8D-A07F-51D94F39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4" name="Freeform 9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05" name="Right Triangle 10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06" name="Right Triangle 10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408" name="Straight Connector 15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409" name="Chevron 16"/>
          <p:cNvGrpSpPr/>
          <p:nvPr/>
        </p:nvGrpSpPr>
        <p:grpSpPr>
          <a:xfrm>
            <a:off x="8583480" y="4937040"/>
            <a:ext cx="335160" cy="378000"/>
            <a:chOff x="8583480" y="4937040"/>
            <a:chExt cx="335160" cy="378000"/>
          </a:xfrm>
        </p:grpSpPr>
        <p:pic>
          <p:nvPicPr>
            <p:cNvPr id="410" name="Chevron 16" descr=""/>
            <p:cNvPicPr/>
            <p:nvPr/>
          </p:nvPicPr>
          <p:blipFill>
            <a:blip r:embed="rId5"/>
            <a:stretch/>
          </p:blipFill>
          <p:spPr>
            <a:xfrm>
              <a:off x="858348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412" name="Chevron 17"/>
          <p:cNvGrpSpPr/>
          <p:nvPr/>
        </p:nvGrpSpPr>
        <p:grpSpPr>
          <a:xfrm>
            <a:off x="8400960" y="4937040"/>
            <a:ext cx="335160" cy="378000"/>
            <a:chOff x="8400960" y="4937040"/>
            <a:chExt cx="335160" cy="378000"/>
          </a:xfrm>
        </p:grpSpPr>
        <p:pic>
          <p:nvPicPr>
            <p:cNvPr id="413" name="Chevron 17" descr=""/>
            <p:cNvPicPr/>
            <p:nvPr/>
          </p:nvPicPr>
          <p:blipFill>
            <a:blip r:embed="rId6"/>
            <a:stretch/>
          </p:blipFill>
          <p:spPr>
            <a:xfrm>
              <a:off x="840096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5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4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460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2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03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50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06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8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49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5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52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B220-C95E-46F4-B9AD-56DE9DBD696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5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96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59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99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DDA-C2D1-45EC-AA4A-5551EAA4E63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7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258106"/>
              </a:gs>
              <a:gs pos="50000">
                <a:srgbClr val="6ac654"/>
              </a:gs>
              <a:gs pos="100000">
                <a:srgbClr val="25810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6" name="Freeform 10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9cfa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  <p:grpSp>
          <p:nvGrpSpPr>
            <p:cNvPr id="48" name="Freeform 16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9" name="Freeform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3300"/>
                  </a:solidFill>
                  <a:latin typeface="Tahoma"/>
                </a:endParaRPr>
              </a:p>
            </p:txBody>
          </p:sp>
        </p:grpSp>
        <p:pic>
          <p:nvPicPr>
            <p:cNvPr id="51" name="Straight Connector 17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92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9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95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165240" y="5815080"/>
            <a:ext cx="2220840" cy="1042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13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1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140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grpSp>
        <p:nvGrpSpPr>
          <p:cNvPr id="141" name="Chevron 7"/>
          <p:cNvGrpSpPr/>
          <p:nvPr/>
        </p:nvGrpSpPr>
        <p:grpSpPr>
          <a:xfrm>
            <a:off x="3560760" y="2955960"/>
            <a:ext cx="334800" cy="377640"/>
            <a:chOff x="3560760" y="2955960"/>
            <a:chExt cx="334800" cy="377640"/>
          </a:xfrm>
        </p:grpSpPr>
        <p:pic>
          <p:nvPicPr>
            <p:cNvPr id="142" name="Chevron 7" descr=""/>
            <p:cNvPicPr/>
            <p:nvPr/>
          </p:nvPicPr>
          <p:blipFill>
            <a:blip r:embed="rId4"/>
            <a:stretch/>
          </p:blipFill>
          <p:spPr>
            <a:xfrm>
              <a:off x="3560760" y="295596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144" name="Chevron 9"/>
          <p:cNvGrpSpPr/>
          <p:nvPr/>
        </p:nvGrpSpPr>
        <p:grpSpPr>
          <a:xfrm>
            <a:off x="3371760" y="2955960"/>
            <a:ext cx="335160" cy="377640"/>
            <a:chOff x="3371760" y="2955960"/>
            <a:chExt cx="335160" cy="377640"/>
          </a:xfrm>
        </p:grpSpPr>
        <p:pic>
          <p:nvPicPr>
            <p:cNvPr id="145" name="Chevron 9" descr=""/>
            <p:cNvPicPr/>
            <p:nvPr/>
          </p:nvPicPr>
          <p:blipFill>
            <a:blip r:embed="rId5"/>
            <a:stretch/>
          </p:blipFill>
          <p:spPr>
            <a:xfrm>
              <a:off x="3371760" y="2955960"/>
              <a:ext cx="3351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18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18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190" name="Straight Connector 14" descr=""/>
          <p:cNvPicPr/>
          <p:nvPr/>
        </p:nvPicPr>
        <p:blipFill>
          <a:blip r:embed="rId4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2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73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27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276" name="Straight Connector 14" descr=""/>
          <p:cNvPicPr/>
          <p:nvPr/>
        </p:nvPicPr>
        <p:blipFill>
          <a:blip r:embed="rId4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8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319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3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322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10" descr="http://t3.gstatic.com/images?q=tbn:ANd9GcS1gBq2Jxv4V1M_3RRq1ZZ0bG61430PR_TbMx0Qw5ELvp4eGizAsOyK3yi8"/>
          <p:cNvPicPr/>
          <p:nvPr/>
        </p:nvPicPr>
        <p:blipFill>
          <a:blip r:embed="rId1"/>
          <a:stretch/>
        </p:blipFill>
        <p:spPr>
          <a:xfrm>
            <a:off x="4029120" y="264960"/>
            <a:ext cx="4611600" cy="30877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2" descr="http://members.chello.nl/j.meijers3/Jas-39-Grippen-2.jpg"/>
          <p:cNvPicPr/>
          <p:nvPr/>
        </p:nvPicPr>
        <p:blipFill>
          <a:blip r:embed="rId2"/>
          <a:stretch/>
        </p:blipFill>
        <p:spPr>
          <a:xfrm>
            <a:off x="4014720" y="2425680"/>
            <a:ext cx="4626000" cy="1820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4" descr="http://i.telegraph.co.uk/multimedia/archive/01460/viking_1460009c.jpg"/>
          <p:cNvPicPr/>
          <p:nvPr/>
        </p:nvPicPr>
        <p:blipFill>
          <a:blip r:embed="rId3"/>
          <a:stretch/>
        </p:blipFill>
        <p:spPr>
          <a:xfrm>
            <a:off x="4029120" y="3989520"/>
            <a:ext cx="4611600" cy="1828800"/>
          </a:xfrm>
          <a:prstGeom prst="rect">
            <a:avLst/>
          </a:prstGeom>
          <a:ln w="0">
            <a:noFill/>
          </a:ln>
        </p:spPr>
      </p:pic>
      <p:pic>
        <p:nvPicPr>
          <p:cNvPr id="651" name="Rectangle 18" descr=""/>
          <p:cNvPicPr/>
          <p:nvPr/>
        </p:nvPicPr>
        <p:blipFill>
          <a:blip r:embed="rId4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logo.png"/>
          <p:cNvPicPr/>
          <p:nvPr/>
        </p:nvPicPr>
        <p:blipFill>
          <a:blip r:embed="rId5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8" descr="http://t3.gstatic.com/images?q=tbn:ANd9GcQ-l7FCCL_-WR9UW6bS41O9y6VFfbZuRgSx1Igap19R_ExcdVSnAQ"/>
          <p:cNvPicPr/>
          <p:nvPr/>
        </p:nvPicPr>
        <p:blipFill>
          <a:blip r:embed="rId6"/>
          <a:stretch/>
        </p:blipFill>
        <p:spPr>
          <a:xfrm>
            <a:off x="344520" y="258840"/>
            <a:ext cx="3684600" cy="3817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6" descr="http://t2.gstatic.com/images?q=tbn:ANd9GcTxoTzB1mYlUCEcQrk06nA31ViOA7Rw4ZGW2c5jNAcb0_-piJVw"/>
          <p:cNvPicPr/>
          <p:nvPr/>
        </p:nvPicPr>
        <p:blipFill>
          <a:blip r:embed="rId7"/>
          <a:stretch/>
        </p:blipFill>
        <p:spPr>
          <a:xfrm>
            <a:off x="189000" y="2413080"/>
            <a:ext cx="3865320" cy="16952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8" descr="http://t1.gstatic.com/images?q=tbn:ANd9GcRLPOqBPoQR2bfgoSjW3piLVY-NA9c_Zo2-iF0Mzfu3zAEEvunr"/>
          <p:cNvPicPr/>
          <p:nvPr/>
        </p:nvPicPr>
        <p:blipFill>
          <a:blip r:embed="rId8"/>
          <a:stretch/>
        </p:blipFill>
        <p:spPr>
          <a:xfrm>
            <a:off x="198360" y="3949560"/>
            <a:ext cx="38307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2" descr="C:\Documents and Settings\Andy Robertson\Local Settings\Temporary Internet Files\Content.IE5\00Z75JV2\MPj04389310000[1].jpg"/>
          <p:cNvPicPr/>
          <p:nvPr/>
        </p:nvPicPr>
        <p:blipFill>
          <a:blip r:embed="rId1"/>
          <a:stretch/>
        </p:blipFill>
        <p:spPr>
          <a:xfrm>
            <a:off x="1371600" y="1136520"/>
            <a:ext cx="6400800" cy="45849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3" descr="C:\Documents and Settings\Andy Robertson\Local Settings\Temporary Internet Files\Content.IE5\00Z75JV2\MPj04389310000[1].jpg"/>
          <p:cNvPicPr/>
          <p:nvPr/>
        </p:nvPicPr>
        <p:blipFill>
          <a:blip r:embed="rId2">
            <a:lum bright="22000"/>
          </a:blip>
          <a:stretch/>
        </p:blipFill>
        <p:spPr>
          <a:xfrm>
            <a:off x="-1812960" y="0"/>
            <a:ext cx="10956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2" name="Rectangle 9"/>
          <p:cNvGrpSpPr/>
          <p:nvPr/>
        </p:nvGrpSpPr>
        <p:grpSpPr>
          <a:xfrm>
            <a:off x="701640" y="1768320"/>
            <a:ext cx="7851960" cy="1090800"/>
            <a:chOff x="701640" y="1768320"/>
            <a:chExt cx="7851960" cy="1090800"/>
          </a:xfrm>
        </p:grpSpPr>
        <p:pic>
          <p:nvPicPr>
            <p:cNvPr id="693" name="Rectangle 9" descr=""/>
            <p:cNvPicPr/>
            <p:nvPr/>
          </p:nvPicPr>
          <p:blipFill>
            <a:blip r:embed="rId3"/>
            <a:stretch/>
          </p:blipFill>
          <p:spPr>
            <a:xfrm>
              <a:off x="701640" y="1768320"/>
              <a:ext cx="78519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731880" y="1797120"/>
              <a:ext cx="779760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A readiness to start </a:t>
              </a:r>
              <a:r>
                <a:rPr b="1" lang="en-GB" sz="3200" spc="-1" strike="noStrike">
                  <a:solidFill>
                    <a:srgbClr val="ffffff"/>
                  </a:solidFill>
                  <a:latin typeface="Arial Black"/>
                </a:rPr>
                <a:t>bold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 new ventures</a:t>
              </a:r>
              <a:r>
                <a:rPr b="0" lang="en-GB" sz="4400" spc="-1" strike="noStrike">
                  <a:solidFill>
                    <a:srgbClr val="ffffff"/>
                  </a:solidFill>
                  <a:latin typeface="Arial Black"/>
                </a:rPr>
                <a:t>.</a:t>
              </a: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695" name="Rectangle 6"/>
          <p:cNvGrpSpPr/>
          <p:nvPr/>
        </p:nvGrpSpPr>
        <p:grpSpPr>
          <a:xfrm>
            <a:off x="450720" y="3035160"/>
            <a:ext cx="8255160" cy="1974960"/>
            <a:chOff x="450720" y="3035160"/>
            <a:chExt cx="8255160" cy="1974960"/>
          </a:xfrm>
        </p:grpSpPr>
        <p:pic>
          <p:nvPicPr>
            <p:cNvPr id="696" name="Rectangle 6" descr=""/>
            <p:cNvPicPr/>
            <p:nvPr/>
          </p:nvPicPr>
          <p:blipFill>
            <a:blip r:embed="rId4"/>
            <a:stretch/>
          </p:blipFill>
          <p:spPr>
            <a:xfrm>
              <a:off x="450720" y="3035160"/>
              <a:ext cx="825516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82760" y="3067200"/>
              <a:ext cx="819612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An organisation created for business ventures;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"a growing enterprise must have a </a:t>
              </a:r>
              <a:r>
                <a:rPr b="0" lang="en-GB" sz="3600" spc="-1" strike="noStrike">
                  <a:solidFill>
                    <a:srgbClr val="ffffff"/>
                  </a:solidFill>
                  <a:latin typeface="Arial Black"/>
                </a:rPr>
                <a:t>bold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 leader"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698" name="Rectangle 2" descr=""/>
          <p:cNvPicPr/>
          <p:nvPr/>
        </p:nvPicPr>
        <p:blipFill>
          <a:blip r:embed="rId5"/>
          <a:stretch/>
        </p:blipFill>
        <p:spPr>
          <a:xfrm>
            <a:off x="530280" y="853920"/>
            <a:ext cx="7473960" cy="9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01" name="TextBox 3"/>
          <p:cNvSpPr/>
          <p:nvPr/>
        </p:nvSpPr>
        <p:spPr>
          <a:xfrm>
            <a:off x="1152360" y="1776240"/>
            <a:ext cx="57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Enterprise Skill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Rectangle 2" descr=""/>
          <p:cNvPicPr/>
          <p:nvPr/>
        </p:nvPicPr>
        <p:blipFill>
          <a:blip r:embed="rId1"/>
          <a:stretch/>
        </p:blipFill>
        <p:spPr>
          <a:xfrm>
            <a:off x="182520" y="360360"/>
            <a:ext cx="8620200" cy="1359000"/>
          </a:xfrm>
          <a:prstGeom prst="rect">
            <a:avLst/>
          </a:prstGeom>
          <a:ln w="0">
            <a:noFill/>
          </a:ln>
        </p:spPr>
      </p:pic>
      <p:sp>
        <p:nvSpPr>
          <p:cNvPr id="703" name="AutoShape 6"/>
          <p:cNvSpPr/>
          <p:nvPr/>
        </p:nvSpPr>
        <p:spPr>
          <a:xfrm>
            <a:off x="40968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esenting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4" name="AutoShape 8"/>
          <p:cNvSpPr/>
          <p:nvPr/>
        </p:nvSpPr>
        <p:spPr>
          <a:xfrm>
            <a:off x="46512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eam wor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5" name="AutoShape 9"/>
          <p:cNvSpPr/>
          <p:nvPr/>
        </p:nvSpPr>
        <p:spPr>
          <a:xfrm>
            <a:off x="375120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lan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6" name="AutoShape 13"/>
          <p:cNvSpPr/>
          <p:nvPr/>
        </p:nvSpPr>
        <p:spPr>
          <a:xfrm>
            <a:off x="3867120" y="25225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anaging Resources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7" name="AutoShape 15"/>
          <p:cNvSpPr/>
          <p:nvPr/>
        </p:nvSpPr>
        <p:spPr>
          <a:xfrm>
            <a:off x="517680" y="251604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gotiation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8" name="AutoShape 16"/>
          <p:cNvSpPr/>
          <p:nvPr/>
        </p:nvSpPr>
        <p:spPr>
          <a:xfrm>
            <a:off x="38592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viewing Performance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9" name="AutoShape 17"/>
          <p:cNvSpPr/>
          <p:nvPr/>
        </p:nvSpPr>
        <p:spPr>
          <a:xfrm>
            <a:off x="3990960" y="185256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blem solving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0" name="AutoShape 20"/>
          <p:cNvSpPr/>
          <p:nvPr/>
        </p:nvSpPr>
        <p:spPr>
          <a:xfrm>
            <a:off x="614520" y="185112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iste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1" name="AutoShape 21"/>
          <p:cNvSpPr/>
          <p:nvPr/>
        </p:nvSpPr>
        <p:spPr>
          <a:xfrm>
            <a:off x="382572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2" name="AutoShape 22"/>
          <p:cNvSpPr/>
          <p:nvPr/>
        </p:nvSpPr>
        <p:spPr>
          <a:xfrm>
            <a:off x="381636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reative Thin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713" name="Picture 13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16" name="TextBox 3"/>
          <p:cNvSpPr/>
          <p:nvPr/>
        </p:nvSpPr>
        <p:spPr>
          <a:xfrm>
            <a:off x="2279520" y="1643040"/>
            <a:ext cx="406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Developing Enterprise skills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19" name="TextBox 5"/>
          <p:cNvSpPr/>
          <p:nvPr/>
        </p:nvSpPr>
        <p:spPr>
          <a:xfrm>
            <a:off x="1789200" y="2054160"/>
            <a:ext cx="549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In a day /over three year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Rectangle 2" descr=""/>
          <p:cNvPicPr/>
          <p:nvPr/>
        </p:nvPicPr>
        <p:blipFill>
          <a:blip r:embed="rId1"/>
          <a:stretch/>
        </p:blipFill>
        <p:spPr>
          <a:xfrm>
            <a:off x="201600" y="450720"/>
            <a:ext cx="8491680" cy="13845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5" descr="j0311786"/>
          <p:cNvPicPr/>
          <p:nvPr/>
        </p:nvPicPr>
        <p:blipFill>
          <a:blip r:embed="rId2"/>
          <a:stretch/>
        </p:blipFill>
        <p:spPr>
          <a:xfrm>
            <a:off x="7920000" y="4257720"/>
            <a:ext cx="933480" cy="80316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4"/>
          <p:cNvSpPr/>
          <p:nvPr/>
        </p:nvSpPr>
        <p:spPr>
          <a:xfrm>
            <a:off x="1038240" y="1604880"/>
            <a:ext cx="5327640" cy="2158920"/>
          </a:xfrm>
          <a:prstGeom prst="downArrowCallout">
            <a:avLst>
              <a:gd name="adj1" fmla="val 61699"/>
              <a:gd name="adj2" fmla="val 30847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Calibri"/>
              </a:rPr>
              <a:t>Tackling a problem</a:t>
            </a: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Calibri"/>
              </a:rPr>
              <a:t>Generate ideas through discussion to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Calibri"/>
              </a:rPr>
              <a:t>reach a common understanding of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Calibri"/>
              </a:rPr>
              <a:t>what is required to resolve the problem</a:t>
            </a: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3" name="AutoShape 5"/>
          <p:cNvSpPr/>
          <p:nvPr/>
        </p:nvSpPr>
        <p:spPr>
          <a:xfrm>
            <a:off x="1368360" y="2274840"/>
            <a:ext cx="5292720" cy="2158920"/>
          </a:xfrm>
          <a:prstGeom prst="downArrowCallout">
            <a:avLst>
              <a:gd name="adj1" fmla="val 61294"/>
              <a:gd name="adj2" fmla="val 30644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Calibri"/>
              </a:rPr>
              <a:t>Planning the project or activity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Breaking down tasks, organising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resources, deploying team member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and allocating responsibilitie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4" name="AutoShape 6"/>
          <p:cNvSpPr/>
          <p:nvPr/>
        </p:nvSpPr>
        <p:spPr>
          <a:xfrm>
            <a:off x="1795320" y="3022560"/>
            <a:ext cx="5329440" cy="2158920"/>
          </a:xfrm>
          <a:prstGeom prst="downArrowCallout">
            <a:avLst>
              <a:gd name="adj1" fmla="val 61720"/>
              <a:gd name="adj2" fmla="val 30857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Calibri"/>
              </a:rPr>
              <a:t>Implementing the plan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alibri"/>
              </a:rPr>
              <a:t>ACTION</a:t>
            </a:r>
            <a:r>
              <a:rPr b="0" lang="en-GB" sz="28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Solving problems, monitoring progres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5" name="AutoShape 7"/>
          <p:cNvSpPr/>
          <p:nvPr/>
        </p:nvSpPr>
        <p:spPr>
          <a:xfrm>
            <a:off x="2268360" y="3537000"/>
            <a:ext cx="5329440" cy="2484360"/>
          </a:xfrm>
          <a:prstGeom prst="downArrowCallout">
            <a:avLst>
              <a:gd name="adj1" fmla="val 53635"/>
              <a:gd name="adj2" fmla="val 26815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Calibri"/>
              </a:rPr>
              <a:t>Evaluating the proces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Reviewing activities and final outcomes,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reflecting on lessons learned and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assessing the skills, attitudes, qualitie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Calibri"/>
              </a:rPr>
              <a:t>and understanding gained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726" name="Picture 19" descr="j0311778"/>
          <p:cNvPicPr/>
          <p:nvPr/>
        </p:nvPicPr>
        <p:blipFill>
          <a:blip r:embed="rId3"/>
          <a:stretch/>
        </p:blipFill>
        <p:spPr>
          <a:xfrm>
            <a:off x="7704000" y="3033720"/>
            <a:ext cx="719280" cy="9270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20" descr="j0311776"/>
          <p:cNvPicPr/>
          <p:nvPr/>
        </p:nvPicPr>
        <p:blipFill>
          <a:blip r:embed="rId4"/>
          <a:stretch/>
        </p:blipFill>
        <p:spPr>
          <a:xfrm>
            <a:off x="7201080" y="2276640"/>
            <a:ext cx="915840" cy="7412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2" descr="j0311780"/>
          <p:cNvPicPr/>
          <p:nvPr/>
        </p:nvPicPr>
        <p:blipFill>
          <a:blip r:embed="rId5"/>
          <a:stretch/>
        </p:blipFill>
        <p:spPr>
          <a:xfrm>
            <a:off x="6659640" y="1341360"/>
            <a:ext cx="689040" cy="95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31" name="TextBox 3"/>
          <p:cNvSpPr/>
          <p:nvPr/>
        </p:nvSpPr>
        <p:spPr>
          <a:xfrm>
            <a:off x="873360" y="2332080"/>
            <a:ext cx="80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Recording impact assessment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34" name="TextBox 3"/>
          <p:cNvSpPr/>
          <p:nvPr/>
        </p:nvSpPr>
        <p:spPr>
          <a:xfrm>
            <a:off x="1765080" y="2279520"/>
            <a:ext cx="595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Developing an activity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" descr="C:\Documents and Settings\Andy Robertson\Local Settings\Temporary Internet Files\Content.IE5\XP688FCC\MPj04386600000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740" name="TextBox 3"/>
          <p:cNvSpPr/>
          <p:nvPr/>
        </p:nvSpPr>
        <p:spPr>
          <a:xfrm>
            <a:off x="2988360" y="2425680"/>
            <a:ext cx="29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Discussio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658" name="TextBox 3"/>
          <p:cNvSpPr/>
          <p:nvPr/>
        </p:nvSpPr>
        <p:spPr>
          <a:xfrm>
            <a:off x="3246480" y="4280040"/>
            <a:ext cx="447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Andy &amp; Simo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642960" y="1055520"/>
            <a:ext cx="7334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400" spc="-1" strike="noStrike">
                <a:solidFill>
                  <a:srgbClr val="ff3300"/>
                </a:solidFill>
                <a:latin typeface="Tahoma"/>
              </a:rPr>
              <a:t>Välkommen och tack för att ni gett </a:t>
            </a:r>
            <a:endParaRPr b="0" lang="en-US" sz="5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400" spc="-1" strike="noStrike">
                <a:solidFill>
                  <a:srgbClr val="ff3300"/>
                </a:solidFill>
                <a:latin typeface="Tahoma"/>
              </a:rPr>
              <a:t>oss din tid.</a:t>
            </a:r>
            <a:endParaRPr b="0" lang="en-US" sz="5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0" name="TextBox 7"/>
          <p:cNvSpPr/>
          <p:nvPr/>
        </p:nvSpPr>
        <p:spPr>
          <a:xfrm>
            <a:off x="1192320" y="5499000"/>
            <a:ext cx="61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lcome and thank you for coming</a:t>
            </a:r>
            <a:endParaRPr b="0" lang="en-US" sz="12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5" descr="trainers"/>
          <p:cNvPicPr/>
          <p:nvPr/>
        </p:nvPicPr>
        <p:blipFill>
          <a:blip r:embed="rId1"/>
          <a:stretch/>
        </p:blipFill>
        <p:spPr>
          <a:xfrm>
            <a:off x="-360360" y="476280"/>
            <a:ext cx="8101080" cy="5656320"/>
          </a:xfrm>
          <a:prstGeom prst="rect">
            <a:avLst/>
          </a:prstGeom>
          <a:ln w="0">
            <a:noFill/>
          </a:ln>
        </p:spPr>
      </p:pic>
      <p:sp>
        <p:nvSpPr>
          <p:cNvPr id="748" name="Oval 7"/>
          <p:cNvSpPr/>
          <p:nvPr/>
        </p:nvSpPr>
        <p:spPr>
          <a:xfrm>
            <a:off x="6624720" y="1125360"/>
            <a:ext cx="2268360" cy="20894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FOO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FIRS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3995280" y="2100240"/>
            <a:ext cx="4367160" cy="3500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eam Work - Strengths an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st Task/Worst Task –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hat we could improve nex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ost enjoyabl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5" descr="j0311786"/>
          <p:cNvPicPr/>
          <p:nvPr/>
        </p:nvPicPr>
        <p:blipFill>
          <a:blip r:embed="rId1"/>
          <a:stretch/>
        </p:blipFill>
        <p:spPr>
          <a:xfrm>
            <a:off x="431640" y="1305000"/>
            <a:ext cx="3276720" cy="4032000"/>
          </a:xfrm>
          <a:prstGeom prst="rect">
            <a:avLst/>
          </a:prstGeom>
          <a:ln w="0">
            <a:noFill/>
          </a:ln>
        </p:spPr>
      </p:pic>
      <p:sp>
        <p:nvSpPr>
          <p:cNvPr id="751" name="AutoShape 14"/>
          <p:cNvSpPr/>
          <p:nvPr/>
        </p:nvSpPr>
        <p:spPr>
          <a:xfrm>
            <a:off x="3963960" y="460440"/>
            <a:ext cx="4535640" cy="1584360"/>
          </a:xfrm>
          <a:custGeom>
            <a:avLst/>
            <a:gdLst>
              <a:gd name="textAreaLeft" fmla="*/ 0 w 4535640"/>
              <a:gd name="textAreaRight" fmla="*/ 4536000 w 453564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Review to Improve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752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400"/>
                            </p:stCondLst>
                            <p:childTnLst>
                              <p:par>
                                <p:cTn id="2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400"/>
                            </p:stCondLst>
                            <p:childTnLst>
                              <p:par>
                                <p:cTn id="2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400"/>
                            </p:stCondLst>
                            <p:childTnLst>
                              <p:par>
                                <p:cTn id="2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600"/>
                            </p:stCondLst>
                            <p:childTnLst>
                              <p:par>
                                <p:cTn id="2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100"/>
                            </p:stCondLst>
                            <p:childTnLst>
                              <p:par>
                                <p:cTn id="2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6" descr=""/>
          <p:cNvPicPr/>
          <p:nvPr/>
        </p:nvPicPr>
        <p:blipFill>
          <a:blip r:embed="rId1"/>
          <a:stretch/>
        </p:blipFill>
        <p:spPr>
          <a:xfrm>
            <a:off x="2016000" y="1308240"/>
            <a:ext cx="5067360" cy="2381040"/>
          </a:xfrm>
          <a:prstGeom prst="rect">
            <a:avLst/>
          </a:prstGeom>
          <a:ln w="0">
            <a:noFill/>
          </a:ln>
        </p:spPr>
      </p:pic>
      <p:sp>
        <p:nvSpPr>
          <p:cNvPr id="754" name="TextBox 3"/>
          <p:cNvSpPr/>
          <p:nvPr/>
        </p:nvSpPr>
        <p:spPr>
          <a:xfrm>
            <a:off x="814320" y="4073400"/>
            <a:ext cx="76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Thank You for Taking Par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756" name="Picture 5" descr="thank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3"/>
          <p:cNvSpPr/>
          <p:nvPr/>
        </p:nvSpPr>
        <p:spPr>
          <a:xfrm>
            <a:off x="2286000" y="27050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The Pla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4"/>
          <p:cNvSpPr/>
          <p:nvPr/>
        </p:nvSpPr>
        <p:spPr>
          <a:xfrm>
            <a:off x="762120" y="1006560"/>
            <a:ext cx="7734240" cy="4387680"/>
          </a:xfrm>
          <a:prstGeom prst="flowChartAlternateProcess">
            <a:avLst/>
          </a:prstGeom>
          <a:solidFill>
            <a:srgbClr val="54a838"/>
          </a:solidFill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Plan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.00 – 3.30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lcome &amp; Introductio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lenary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3.30 – 4.1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tivity Circu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roup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4.15 – 4.45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iscussion on activity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lenary 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4.45 – 5.00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Challeng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lenary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4" descr="logo.png"/>
          <p:cNvPicPr/>
          <p:nvPr/>
        </p:nvPicPr>
        <p:blipFill>
          <a:blip r:embed="rId2"/>
          <a:stretch/>
        </p:blipFill>
        <p:spPr>
          <a:xfrm>
            <a:off x="2651040" y="5827680"/>
            <a:ext cx="2075040" cy="871560"/>
          </a:xfrm>
          <a:prstGeom prst="rect">
            <a:avLst/>
          </a:prstGeom>
          <a:ln w="0">
            <a:noFill/>
          </a:ln>
        </p:spPr>
      </p:pic>
      <p:sp>
        <p:nvSpPr>
          <p:cNvPr id="669" name="TextBox 3"/>
          <p:cNvSpPr/>
          <p:nvPr/>
        </p:nvSpPr>
        <p:spPr>
          <a:xfrm>
            <a:off x="1776240" y="2027160"/>
            <a:ext cx="540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Enterprise a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ahoma"/>
              </a:rPr>
              <a:t>British perspective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71" name="Rectangle 2" descr=""/>
          <p:cNvPicPr/>
          <p:nvPr/>
        </p:nvPicPr>
        <p:blipFill>
          <a:blip r:embed="rId2"/>
          <a:stretch/>
        </p:blipFill>
        <p:spPr>
          <a:xfrm>
            <a:off x="768240" y="-237960"/>
            <a:ext cx="7382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672" name="Rectangle 11"/>
          <p:cNvGrpSpPr/>
          <p:nvPr/>
        </p:nvGrpSpPr>
        <p:grpSpPr>
          <a:xfrm>
            <a:off x="3749760" y="3151080"/>
            <a:ext cx="3004920" cy="2994120"/>
            <a:chOff x="3749760" y="3151080"/>
            <a:chExt cx="3004920" cy="2994120"/>
          </a:xfrm>
        </p:grpSpPr>
        <p:pic>
          <p:nvPicPr>
            <p:cNvPr id="673" name="Rectangle 11" descr=""/>
            <p:cNvPicPr/>
            <p:nvPr/>
          </p:nvPicPr>
          <p:blipFill>
            <a:blip r:embed="rId3"/>
            <a:stretch/>
          </p:blipFill>
          <p:spPr>
            <a:xfrm>
              <a:off x="3749760" y="3151080"/>
              <a:ext cx="30049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3763800" y="3166920"/>
              <a:ext cx="2980080" cy="29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I enjoy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getting into new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situations where I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don’t know how things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will turn out.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76" name="Rectangle 2" descr=""/>
          <p:cNvPicPr/>
          <p:nvPr/>
        </p:nvPicPr>
        <p:blipFill>
          <a:blip r:embed="rId2"/>
          <a:stretch/>
        </p:blipFill>
        <p:spPr>
          <a:xfrm>
            <a:off x="768240" y="-237960"/>
            <a:ext cx="7382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677" name="Rectangle 4"/>
          <p:cNvGrpSpPr/>
          <p:nvPr/>
        </p:nvGrpSpPr>
        <p:grpSpPr>
          <a:xfrm>
            <a:off x="3535200" y="2809800"/>
            <a:ext cx="3206880" cy="3194280"/>
            <a:chOff x="3535200" y="2809800"/>
            <a:chExt cx="3206880" cy="3194280"/>
          </a:xfrm>
        </p:grpSpPr>
        <p:pic>
          <p:nvPicPr>
            <p:cNvPr id="678" name="Rectangle 4" descr=""/>
            <p:cNvPicPr/>
            <p:nvPr/>
          </p:nvPicPr>
          <p:blipFill>
            <a:blip r:embed="rId3"/>
            <a:stretch/>
          </p:blipFill>
          <p:spPr>
            <a:xfrm>
              <a:off x="3535200" y="2809800"/>
              <a:ext cx="3206880" cy="31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 rot="21361200">
              <a:off x="3650760" y="2925360"/>
              <a:ext cx="297972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I like to act 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on impulse!.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81" name="Rectangle 2" descr=""/>
          <p:cNvPicPr/>
          <p:nvPr/>
        </p:nvPicPr>
        <p:blipFill>
          <a:blip r:embed="rId2"/>
          <a:stretch/>
        </p:blipFill>
        <p:spPr>
          <a:xfrm>
            <a:off x="768240" y="-237960"/>
            <a:ext cx="7382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682" name="Rectangle 4"/>
          <p:cNvGrpSpPr/>
          <p:nvPr/>
        </p:nvGrpSpPr>
        <p:grpSpPr>
          <a:xfrm>
            <a:off x="3681360" y="2955960"/>
            <a:ext cx="3164040" cy="3146400"/>
            <a:chOff x="3681360" y="2955960"/>
            <a:chExt cx="3164040" cy="3146400"/>
          </a:xfrm>
        </p:grpSpPr>
        <p:pic>
          <p:nvPicPr>
            <p:cNvPr id="683" name="Rectangle 4" descr=""/>
            <p:cNvPicPr/>
            <p:nvPr/>
          </p:nvPicPr>
          <p:blipFill>
            <a:blip r:embed="rId3"/>
            <a:stretch/>
          </p:blipFill>
          <p:spPr>
            <a:xfrm>
              <a:off x="3681360" y="2955960"/>
              <a:ext cx="3164040" cy="31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 rot="21418200">
              <a:off x="3777840" y="3047760"/>
              <a:ext cx="297972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 Black"/>
                </a:rPr>
                <a:t>I enjoy trying </a:t>
              </a:r>
              <a:endParaRPr b="0" lang="en-US" sz="4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 Black"/>
                </a:rPr>
                <a:t>new things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86" name="Rectangle 2" descr=""/>
          <p:cNvPicPr/>
          <p:nvPr/>
        </p:nvPicPr>
        <p:blipFill>
          <a:blip r:embed="rId2"/>
          <a:stretch/>
        </p:blipFill>
        <p:spPr>
          <a:xfrm>
            <a:off x="768240" y="-237960"/>
            <a:ext cx="7382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687" name="Rectangle 4"/>
          <p:cNvGrpSpPr/>
          <p:nvPr/>
        </p:nvGrpSpPr>
        <p:grpSpPr>
          <a:xfrm>
            <a:off x="3700440" y="2895480"/>
            <a:ext cx="3213000" cy="3194280"/>
            <a:chOff x="3700440" y="2895480"/>
            <a:chExt cx="3213000" cy="3194280"/>
          </a:xfrm>
        </p:grpSpPr>
        <p:pic>
          <p:nvPicPr>
            <p:cNvPr id="688" name="Rectangle 4" descr=""/>
            <p:cNvPicPr/>
            <p:nvPr/>
          </p:nvPicPr>
          <p:blipFill>
            <a:blip r:embed="rId3"/>
            <a:stretch/>
          </p:blipFill>
          <p:spPr>
            <a:xfrm>
              <a:off x="3700440" y="2895480"/>
              <a:ext cx="3213000" cy="31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 rot="21355800">
              <a:off x="3817440" y="3013200"/>
              <a:ext cx="29782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I am a creative 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problem solver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9:40:38Z</dcterms:created>
  <dc:creator>Wyedean School</dc:creator>
  <dc:description/>
  <dc:language>en-US</dc:language>
  <cp:lastModifiedBy> </cp:lastModifiedBy>
  <dcterms:modified xsi:type="dcterms:W3CDTF">2011-08-18T15:25:29Z</dcterms:modified>
  <cp:revision>80</cp:revision>
  <dc:subject/>
  <dc:title>Work Related Learning Village</dc:title>
</cp:coreProperties>
</file>